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2.pct" ContentType="image/x-pict"/>
  <Override PartName="/ppt/media/image6.jpeg" ContentType="image/jpeg"/>
  <Override PartName="/ppt/media/image8.png" ContentType="image/png"/>
  <Override PartName="/ppt/media/image10.pct" ContentType="image/x-pict"/>
  <Override PartName="/ppt/media/image7.jpeg" ContentType="image/jpeg"/>
  <Override PartName="/ppt/media/image9.png" ContentType="image/png"/>
  <Override PartName="/ppt/media/image11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9AE9-7D9E-483E-96A1-7A2D3E327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6F9C-40DC-408F-9894-1FCFF576E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299-1A11-486C-B46F-858121DC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C2C-FAE2-4E3F-804A-CB953B45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46E-11B2-4D4B-B8DD-15E66669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9F5-44FB-4E8A-8436-5CC7E9B8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1613-C1AD-4664-94C2-39558D87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E804-F0E5-495F-9795-9C3D4A7A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775B-BF26-4718-A076-FC34A56E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B6B2-54B3-42F0-A3DC-89D739E9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7E4-9E8C-407C-B0C2-3444519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7F9-099C-4E56-A017-DA8BD93C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4121-6541-4F57-9DF5-BE53918A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83C-A991-497D-BED1-B55389B6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1CE6-CAC8-41E5-8ADB-D3E59B0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7A43-9BE2-429C-974F-95920FB5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0FEF-DC7E-4779-A2E6-E087D079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8538-B92F-4A77-941C-7C2EC494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3EF4-41AB-4727-899B-A0990E93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DFE-34C5-46F7-9030-58C36960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BEC-BB05-4C2B-AE04-EEC651E1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EEF-1AE8-4D05-8BB0-20185338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1C4-EA70-4F8E-A7EA-DBC833D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0EE-375D-48B1-982B-7590466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558-4971-4811-B4FA-71172122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37F-973A-429C-B8D0-8BBCDFF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6E71-CB0C-49D4-BE16-925CF82A0E1E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8CF6-63B5-494F-BE9F-C2366D762822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lluminate.iu13.org:80/recordings.html?s=1205294400000&amp;e=1205380799999&amp;sort_column=date&amp;change_direction=false&amp;page=0" TargetMode="External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itch.at/" TargetMode="External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usic/iTunes/iTunes%20Music/Movies/uwtv_vidcon_ipodv.m4v" TargetMode="External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condlife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ziq.com/content" TargetMode="External"/><Relationship Id="rId3" Type="http://schemas.openxmlformats.org/officeDocument/2006/relationships/hyperlink" Target="http://www.wiziq.com/Member/Tags.aspx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nline Learning Environmen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2880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ey Shelle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an Crook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m McCormi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2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the absence of firm policy guidance, the nation is rushing pell-mell toward an ad hoc system of education that exacerbates existing disparities and cannot assure a high standard of education across new models of instruction.”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onal Association of State Boards of Edu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42640" y="609480"/>
            <a:ext cx="7543800" cy="5486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 rot="1092000">
            <a:off x="4952520" y="2438280"/>
            <a:ext cx="1397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mai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角ゴ Pro W3"/>
              </a:rPr>
              <a:t>_x0016__x0016_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4724280"/>
            <a:ext cx="4343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assroom Management Syst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6200" y="380880"/>
            <a:ext cx="4114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7920" y="3809880"/>
            <a:ext cx="4114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KY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 rot="19388400">
            <a:off x="5181480" y="342900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deo Conferenc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 rot="1490400">
            <a:off x="228240" y="114300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ebina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5562720"/>
            <a:ext cx="39625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48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ssage Boa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 rot="619800">
            <a:off x="4648320" y="556272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line Tutoring/ Less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2280" y="304812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irtual Real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Elluminate / Breez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binar Progra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reates a virtual meeting ro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ow users to record, share, and communica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KYP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89600" y="2133720"/>
            <a:ext cx="369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ee calling, conferencing, video phone, file transfer and instant messaging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ows user to communicate with anyone in the world for FREE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97200" cy="367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hitch.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369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nline classroom management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ows teachers to post and share less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t lessons or projects for stud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t flash cards to aid study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429000"/>
            <a:ext cx="43434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Video Conferencing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9600" y="2133720"/>
            <a:ext cx="3697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lycom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llaborate with others using high quality video communic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rtual field trips and NASA progra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Online Learning Environment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rowing, growing, grow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etting star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icking it ou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d the dividen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Buddy Schoo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students to find specialized tutors onli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unicate through AIM, Skype, GoogleTalk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yment is made through Buddy School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udents seek and request less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Second Lif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virtual worl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n?)Equal parts video game/classroo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seums, Classrooms, Churches, etc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ill a work-in-progre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 premier platform for an affordable online tutoring”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2666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sentation</a:t>
            </a:r>
            <a:r>
              <a:rPr b="0" lang="en-US" sz="2800" spc="-1" strike="noStrike">
                <a:solidFill>
                  <a:srgbClr val="898989"/>
                </a:solidFill>
                <a:latin typeface="Trebuchet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rebuchet MS"/>
                <a:hlinkClick r:id="rId2"/>
              </a:rPr>
              <a:t>Upload/Download</a:t>
            </a:r>
            <a:r>
              <a:rPr b="0" lang="en-US" sz="2800" spc="-1" strike="noStrike" u="sng">
                <a:solidFill>
                  <a:srgbClr val="898989"/>
                </a:solidFill>
                <a:uFillTx/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r create own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533520" y="36576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Subjec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3"/>
              </a:rPr>
              <a:t>Member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533520" y="464832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edule Study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533520" y="5715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Tests: take others or make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8" descr="footer_index_05.gif"/>
          <p:cNvPicPr/>
          <p:nvPr/>
        </p:nvPicPr>
        <p:blipFill>
          <a:blip r:embed="rId4"/>
          <a:stretch/>
        </p:blipFill>
        <p:spPr>
          <a:xfrm>
            <a:off x="2835360" y="152280"/>
            <a:ext cx="2651040" cy="94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-36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Inbox for messag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rivacy Options: choose availability for interaction with other member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Public Session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Collect contacts and share worldwid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Import class and create learning environment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Wiz iQ for Moodle: schedule live classes and more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Picture 3" descr="footer_index_05.gif"/>
          <p:cNvPicPr/>
          <p:nvPr/>
        </p:nvPicPr>
        <p:blipFill>
          <a:blip r:embed="rId2"/>
          <a:stretch/>
        </p:blipFill>
        <p:spPr>
          <a:xfrm>
            <a:off x="2895480" y="228600"/>
            <a:ext cx="256068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rebuchet MS"/>
              </a:rPr>
              <a:t>Rosetta Ston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13712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Trebuchet MS"/>
              </a:rPr>
              <a:t>Online Subscription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6 months: $159.95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12 months: $259.95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Offers 30 languages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Uses Dynamic Immersion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Rosetta Stone Classroom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Picture 7" descr="p31-p38-speech-an-NEW.gif"/>
          <p:cNvPicPr/>
          <p:nvPr/>
        </p:nvPicPr>
        <p:blipFill>
          <a:blip r:embed="rId2"/>
          <a:stretch/>
        </p:blipFill>
        <p:spPr>
          <a:xfrm>
            <a:off x="4800600" y="1676520"/>
            <a:ext cx="3657600" cy="299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eaders-RUS.jpg"/>
          <p:cNvPicPr/>
          <p:nvPr/>
        </p:nvPicPr>
        <p:blipFill>
          <a:blip r:embed="rId3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ontent Placeholder 3" descr="Computer.jpg"/>
          <p:cNvPicPr/>
          <p:nvPr/>
        </p:nvPicPr>
        <p:blipFill>
          <a:blip r:embed="rId2"/>
          <a:stretch/>
        </p:blipFill>
        <p:spPr>
          <a:xfrm>
            <a:off x="6248520" y="3809880"/>
            <a:ext cx="249696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762120" y="312408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2362320" y="304920"/>
            <a:ext cx="510516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Online learning environments promot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tion- with everything being documented educators know who is contributing and who i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diversity of subject mat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sche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fessional development opportunities for educ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lobal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cessibility to teacher…frequent feedback and easy information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3505320" y="3809880"/>
            <a:ext cx="5638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1" descr="04_34_12---Computer-Keyboard_web.jpg"/>
          <p:cNvPicPr/>
          <p:nvPr/>
        </p:nvPicPr>
        <p:blipFill>
          <a:blip r:embed="rId3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2"/>
          <p:cNvSpPr/>
          <p:nvPr/>
        </p:nvSpPr>
        <p:spPr>
          <a:xfrm>
            <a:off x="2362320" y="3809880"/>
            <a:ext cx="38098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y policies are not updated enough to have particulars concerning onl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aching methods are still relatively new with much room for expl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treme caution must be used; the Internet is a dangerous 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vailability of internet to stud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chnological Proble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ime for Staf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Picture 3" descr="header_sub_nacol.jpg"/>
          <p:cNvPicPr/>
          <p:nvPr/>
        </p:nvPicPr>
        <p:blipFill>
          <a:blip r:embed="rId2"/>
          <a:stretch/>
        </p:blipFill>
        <p:spPr>
          <a:xfrm>
            <a:off x="0" y="5791320"/>
            <a:ext cx="3429000" cy="10666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4093560" y="6095880"/>
            <a:ext cx="40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c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org/docs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report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04:17Z</dcterms:created>
  <dc:creator> </dc:creator>
  <dc:description/>
  <dc:language>en-US</dc:language>
  <cp:lastModifiedBy>Office 2004 Test Drive User</cp:lastModifiedBy>
  <dcterms:modified xsi:type="dcterms:W3CDTF">2008-03-18T11:34:14Z</dcterms:modified>
  <cp:revision>5</cp:revision>
  <dc:subject/>
  <dc:title>Online Learning Environments</dc:title>
</cp:coreProperties>
</file>